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635D-DC5B-4DB1-B02C-5D40236FA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4565-4357-4FD7-A092-F1BA2B94B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1684-F5EC-4CD1-9C24-B465636D7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DF78-537F-4B69-9849-903B858D6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64F5-EFD7-4800-A037-5AAF4F79C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3C99-C19C-45B3-AAAB-2A7313A75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ED83-241D-48FE-A9CF-DA10945D0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FA83-8834-41A3-9698-3951734DC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3B6E-466A-4849-8DB6-93001B3F9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50F0-4483-46DD-A1E3-A3855090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03FB-1556-4C1F-BC80-8DB5C4C8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7BD6-512C-4E4E-A4FC-D4BC0A1C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1B50-DF6F-4924-9BFE-DB74C5E5C535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V validation plate #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605520" y="1341360"/>
            <a:ext cx="8064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rma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384 amplicons ( two 384-well plates of primers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vents: 4 different types of SV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ndem duplications ( evertions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thods: 4 SV calling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WAC-Seq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-2-3-S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ublic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letion list published by 1000 genomes project (October 2010; trio + low coverage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lection creteria &amp; amplicon desig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539640" y="1341360"/>
            <a:ext cx="7993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consider that everything which was found in 1000 genome projects represents positive call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oNL SV calls that are made by several tools are likely to be tru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the first verification we want to see how to improve  calling for the tools used for GoNL SV analysi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mplicon sizes are between 200 and 500 ba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SV allele is &lt;= 300 bp we fully resequence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SV allele is &gt; 300 bp we resequence only 5-prime breakpoint from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ndomly selected se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826920" y="1700280"/>
            <a:ext cx="2449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letion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WAC-Seq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v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WAC-Seq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4716360" y="1773360"/>
            <a:ext cx="244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s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ver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1112400" y="5732640"/>
            <a:ext cx="25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otal: 384 SV candida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5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erification with Ion torr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11280" y="738360"/>
            <a:ext cx="7934400" cy="5570280"/>
          </a:xfrm>
          <a:prstGeom prst="rect">
            <a:avLst/>
          </a:prstGeom>
          <a:ln w="0">
            <a:noFill/>
          </a:ln>
        </p:spPr>
      </p:pic>
      <p:sp>
        <p:nvSpPr>
          <p:cNvPr id="51" name="TextBox 6"/>
          <p:cNvSpPr/>
          <p:nvPr/>
        </p:nvSpPr>
        <p:spPr>
          <a:xfrm>
            <a:off x="283680" y="6488280"/>
            <a:ext cx="60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mer ~ 23 bp (+tail). Breakpoint should be close to the prim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12:34:52Z</dcterms:created>
  <dc:creator>Vityay</dc:creator>
  <dc:description/>
  <dc:language>en-US</dc:language>
  <cp:lastModifiedBy>Vityay</cp:lastModifiedBy>
  <dcterms:modified xsi:type="dcterms:W3CDTF">2011-10-13T13:06:38Z</dcterms:modified>
  <cp:revision>2</cp:revision>
  <dc:subject/>
  <dc:title>SV validation plate #1</dc:title>
</cp:coreProperties>
</file>