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A2B6-972B-43A7-92F0-A61F27F74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F3E9-DEDB-4019-9F74-E14B41F7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87D0-2252-4A99-95D6-CCCE939D5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3284-14DE-4638-B041-AD6FB7089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0CAF-2E04-4031-AF15-46B9CBD2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69CE-D477-482C-968F-AEC24FA1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E1F1-55E9-4E43-A47F-23C96B8A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BE71-251D-46C4-BE68-8E0811DD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8C09-8E31-4DD4-A8C3-FFF2FCF6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9A96-F44D-42B9-8D06-ACF06EEB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79BC-D1C5-4F84-85E8-179B519E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B146-F2C6-4AA8-998A-E12F488B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0054-AB93-482F-AD00-D4A5C34B19CC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V validation plate #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605520" y="1341360"/>
            <a:ext cx="8064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384 amplicons ( two 384-well plates of primer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nts: 4 different types of SV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ndem duplications ( evertion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thods: 4 SV calling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-2-3-S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ublic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 list published by 1000 genomes project (October 2010; trio + low coverage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lection creteria &amp; amplicon desig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539640" y="134136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onsider that everything which was found in 1000 genome projects represents positive call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NL SV calls that are made by several tools are likely to be tru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first verification we want to see how to improve  calling for the tools used for GoNL SV analys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plicon sizes are between 200 and 500 b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lt;= 300 bp we fully resequenc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gt; 300 bp we resequence only 5-prime breakpoint from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ndomly selected se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826920" y="1700280"/>
            <a:ext cx="24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le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716360" y="1773360"/>
            <a:ext cx="244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ver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112400" y="573264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tal: 384 SV candid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erification with Ion torr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738360"/>
            <a:ext cx="7934400" cy="5570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83680" y="6488280"/>
            <a:ext cx="60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mer ~ 23 bp (+tail). Breakpoint should be close to the pri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2:34:52Z</dcterms:created>
  <dc:creator>Vityay</dc:creator>
  <dc:description/>
  <dc:language>en-US</dc:language>
  <cp:lastModifiedBy>Vityay</cp:lastModifiedBy>
  <dcterms:modified xsi:type="dcterms:W3CDTF">2011-10-13T13:06:38Z</dcterms:modified>
  <cp:revision>2</cp:revision>
  <dc:subject/>
  <dc:title>SV validation plate #1</dc:title>
</cp:coreProperties>
</file>