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240B-B52F-4795-B5B5-E20FBEDAF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9418-5755-4FA9-AC42-6BB2A8DA3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F36E-1DE9-4169-BA76-CBC896F73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91AA-232A-4271-9BFD-E8B326C0C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A9C2-2A6A-4D8F-8522-AD64967CF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8095-CF59-4ECF-9150-FBD67A680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D341-2EE7-4F0F-B11A-DE1D89937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603A-E607-46F9-AD2B-69429F336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97CE-D20A-4556-980D-3B34707E3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706A-F480-44E5-BBA8-8AEE34047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2B16-F536-4D3C-B3AE-777412418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8B5E-32D6-4BDE-B5C3-DEAB3448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7E3F3-45A6-41B1-B832-F46FAE81BB08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V validation plate #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5"/>
          <p:cNvSpPr/>
          <p:nvPr/>
        </p:nvSpPr>
        <p:spPr>
          <a:xfrm>
            <a:off x="605520" y="1341360"/>
            <a:ext cx="8064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rma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384 amplicons ( two 384-well plates of primers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vents: 4 different types of SV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ndem duplications ( evertions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thods: 4 SV calling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WAC-Seq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-2-3-S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ublic 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letion list published by 1000 genomes project (October 2010; trio + low coverage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lection creteria &amp; amplicon desig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539640" y="1341360"/>
            <a:ext cx="7993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 consider that everything which was found in 1000 genome projects represents positive call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oNL SV calls that are made by several tools are likely to be tru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the first verification we want to see how to improve  calling for the tools used for GoNL SV analysi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mplicon sizes are between 200 and 500 ba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SV allele is &lt;= 300 bp we fully resequence 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SV allele is &gt; 300 bp we resequence only 5-prime breakpoint from 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ndomly selected se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826920" y="1700280"/>
            <a:ext cx="2449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letion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WAC-Seq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v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WAC-Seq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4716360" y="1773360"/>
            <a:ext cx="244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s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vers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6"/>
          <p:cNvSpPr/>
          <p:nvPr/>
        </p:nvSpPr>
        <p:spPr>
          <a:xfrm>
            <a:off x="1112400" y="5732640"/>
            <a:ext cx="25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otal: 384 SV candida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772400" cy="5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erification with Ion torr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611280" y="738360"/>
            <a:ext cx="7934400" cy="5570280"/>
          </a:xfrm>
          <a:prstGeom prst="rect">
            <a:avLst/>
          </a:prstGeom>
          <a:ln w="0">
            <a:noFill/>
          </a:ln>
        </p:spPr>
      </p:pic>
      <p:sp>
        <p:nvSpPr>
          <p:cNvPr id="51" name="TextBox 6"/>
          <p:cNvSpPr/>
          <p:nvPr/>
        </p:nvSpPr>
        <p:spPr>
          <a:xfrm>
            <a:off x="283680" y="6488280"/>
            <a:ext cx="60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mer ~ 23 bp (+tail). Breakpoint should be close to the prim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3T12:34:52Z</dcterms:created>
  <dc:creator>Vityay</dc:creator>
  <dc:description/>
  <dc:language>en-US</dc:language>
  <cp:lastModifiedBy>Vityay</cp:lastModifiedBy>
  <dcterms:modified xsi:type="dcterms:W3CDTF">2011-10-13T13:06:38Z</dcterms:modified>
  <cp:revision>2</cp:revision>
  <dc:subject/>
  <dc:title>SV validation plate #1</dc:title>
</cp:coreProperties>
</file>