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420C-440A-4506-8FE1-56C38874B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A8FE-84BA-4CE3-9F5B-B2F45CD2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3FBA-4615-4E10-8718-318AD5D82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BD2E-D6FE-436A-AB5A-95CB235C6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5104-4D18-4EE1-B866-1E47B27A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89BA-8112-4CAD-87B8-13B2BBD8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29CA-9BBE-4B95-8BC0-FC6CB20D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BCF6-3974-4321-81B1-18D3ADC6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E67F-EC6D-4A59-9F45-AEC4A8EC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3165-0E41-44E7-938A-0A93C335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B5B0-5FCB-4BA8-BBC6-70847901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1446-EA4C-49C9-A206-EFFA621D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758B-F119-4B8F-8128-E3FD88C45A20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V validation plate #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605520" y="1341360"/>
            <a:ext cx="8064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384 amplicons ( two 384-well plates of primer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nts: 4 different types of SV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ndem duplications ( evertion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thods: 4 SV calling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-2-3-S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ublic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 list published by 1000 genomes project (October 2010; trio + low coverage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lection creteria &amp; amplicon desig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539640" y="134136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onsider that everything which was found in 1000 genome projects represents positive call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NL SV calls that are made by several tools are likely to be tru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first verification we want to see how to improve  calling for the tools used for GoNL SV analys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plicon sizes are between 200 and 500 b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lt;= 300 bp we fully resequenc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gt; 300 bp we resequence only 5-prime breakpoint from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ndomly selected se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826920" y="1700280"/>
            <a:ext cx="24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le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716360" y="1773360"/>
            <a:ext cx="244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ver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112400" y="573264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tal: 384 SV candid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erification with Ion torr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738360"/>
            <a:ext cx="7934400" cy="5570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83680" y="6488280"/>
            <a:ext cx="60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mer ~ 23 bp (+tail). Breakpoint should be close to the pri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2:34:52Z</dcterms:created>
  <dc:creator>Vityay</dc:creator>
  <dc:description/>
  <dc:language>en-US</dc:language>
  <cp:lastModifiedBy>Vityay</cp:lastModifiedBy>
  <dcterms:modified xsi:type="dcterms:W3CDTF">2011-10-13T13:06:38Z</dcterms:modified>
  <cp:revision>2</cp:revision>
  <dc:subject/>
  <dc:title>SV validation plate #1</dc:title>
</cp:coreProperties>
</file>